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D9D8-D868-4FAB-B9E9-E0D72C51C8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4E6-1598-41E2-B10B-CC60EA6E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030-B051-46F4-9558-CD890E9B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93B-6FDA-428D-9144-91FBF045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3C3-BA87-4B1A-A4FC-21CF04F1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738F-062B-49B0-9DDF-B2364D88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0581-08BF-4378-8E35-2D5E644E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F26B-354A-40C0-AEC5-256ED669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84FA-1F11-43D9-9550-46D6AC42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60C3-C8D8-4FF4-9722-C1CF3DC7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221B-2881-4408-A5FA-BC700226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FF1B-8438-4252-B348-7AD7BB0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DA9-547E-4A42-AAEB-C931FCB5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49FD-3C86-4B56-B912-4030103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5A3-280E-4052-81C3-124D61A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8687-839C-4258-9553-EC02D10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AB4A-D0F9-445F-A6A8-6E074536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818D-2001-4842-A26D-30DAF136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0F5-7BC9-4187-93D5-412B7B8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24A-B52E-40FD-A1D3-2E4E24EB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1F3-DFCC-4E30-B960-C31D3E88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190-550F-4852-9E18-4635CC04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37F-B76F-49DB-9006-561B823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266-3516-4F9E-91D7-BFA05C22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47E-916B-46D5-A91C-A2F63ABE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B302-8F6E-4660-BCF4-617D5584B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ACA-E6DC-4276-BE36-869B418D8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lgebraic Solving Metho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alance This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04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3)2 + Cr(MnO4)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2O3+ MnO2 + Pb3O4 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=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ive Each Compound a Var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 is the amount of Pb on the left side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E is the amount on the lef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A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 in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1=3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/3=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x1=F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 or B/2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 or B=D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B=3(B/2)+3(2B)+4(1/3)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800" y="1219320"/>
            <a:ext cx="893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Oxyge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49120"/>
            <a:ext cx="8224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8B=3B/2+4B+4/3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lowest common multiple of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ach side b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6x] 8B=(3B/2)+(4B+4/3)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9B+24B+8+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33B+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B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ify Your Fr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(B/2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44/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2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(2/1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CD and multiply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w You Have A Finished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each value into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2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44 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2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88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5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90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2:22:10Z</dcterms:created>
  <dc:creator>Samantha Madden</dc:creator>
  <dc:description/>
  <dc:language>en-US</dc:language>
  <cp:lastModifiedBy>LEGION</cp:lastModifiedBy>
  <dcterms:modified xsi:type="dcterms:W3CDTF">2015-09-04T09:52:55Z</dcterms:modified>
  <cp:revision>11</cp:revision>
  <dc:subject/>
  <dc:title>Algebraic Solving Method</dc:title>
</cp:coreProperties>
</file>